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1E3-3491-420F-8E35-83A763B5E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152A-7743-4AAD-871C-A6C64CCB95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AD0-71BC-4904-BBEB-CC9D30358A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73F5-E6A1-4D66-B224-B553C99B87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CEAB-95EA-4AEF-A160-6AC73FA062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B0E-9814-4A2C-833A-EFBFB7BC3A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2A9-62E5-49AD-93CF-E1308BD6ED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893F-42CB-4C3B-A9F3-B58E72C442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F88-B554-4094-8B28-D76B04DA63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FCF-8DA0-44CA-97DC-CF9643BBDF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FA8-0FEA-4342-9B92-9939C687DD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6D76-1C24-461B-BB4C-37476A2FD9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021-4C0F-4F13-B9D0-09668031E0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713-7293-486E-903B-8DA403BB73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DA0E-4E3E-44E6-BDA5-94FA67233C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138-660B-45E5-943B-2F5121DA9F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90A7-8479-44D3-848C-F1CD2FE633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AB2-F840-40F7-99C5-31B207D2F1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F92B-9AC7-4971-872A-C87C25EE05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75CD-C907-4701-86F0-E2D5CC63D8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7E3-B53D-43FE-92C7-44B29DC650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99CC-A756-46D5-966D-19F2EEEA42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8527-DCFA-4832-9175-B19EAB2B4E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270E-F957-44A3-B380-77872967B1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3A3-3267-4128-A68A-23B37C81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29D-4843-42F1-8C64-3871216B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31C-587E-4BBC-B785-BBF8B55B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BF5-164A-4C64-B3CE-3D59F17E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335-87D1-4D2F-B71D-884E0BED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FE8-1B1B-4AFC-B93C-9BE60B3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778-8990-4137-8F9E-4108055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2AF-9D47-496B-B5CF-2C3B48D7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6A8-EBB2-4F9D-89D9-BD3615D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E7B-5440-4E44-9826-7DF5D5A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992-1B9D-4485-B24B-65B8998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3ED-2C16-4572-AFA9-F107EE2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BC4-98AB-493F-8C3C-79181EAECC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</dc:creator>
  <dc:description/>
  <dc:language>en-US</dc:language>
  <cp:lastModifiedBy>joconnor</cp:lastModifiedBy>
  <dcterms:modified xsi:type="dcterms:W3CDTF">2010-10-21T15:38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